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-360" y="-360"/>
            <a:ext cx="3598920" cy="35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28600" y="228600"/>
            <a:ext cx="6629400" cy="75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 2 ]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intelligence / Moss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. dulu tidak ada ensiklopedia elektronik. ensiklopedia buku harganya sangat mahal, tidak lengkap, dan sulit mencari informasi yang kita butuhk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. perusahaan kurir lainnya sudah ada, tetapi fedex bisa melejit dengan dukungan SI ny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 3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total halaman yang ada di database Google: 21 milyar halaman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jika dijadikan buku-buku setebal 100 halaman, maka akan menjadi 210 juta buah buku - cukup untuk semua rakyat Indonesi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kenyataannya, jumlah halaman yang ada di Internet LEBIH dari it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 4 ] yang pernah melakukan pembukuan secara manual akan dapat menghargai ini semu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laporan = kelebihan komputer, karena kemampuannya mengolah data dengan cep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. neraca = biasanya harus menggabungkan data-data dari berbagai buku (hutang, piutang, omset, ongkos, inventory, dll) secara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 5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tidak perlu banyak rak arsi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. dengan staf HR yang tidak banya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. sangat melelahkan jika dikerjakan manu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 6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komponen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. proses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. realisasi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. rincian tahap-tahap perealisasian S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 7 ] kontrol PO: menghindari skenario seperti salesman menambah jumlah order (sehingga komisinya juga bertambah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[ 8 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lambat: karena manual, basa-basi; rentan abuse: kekasaran ora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. bisa sampai yang remeh sekalipun - melaporkan lubang di jalanan (yang berbahaya terutama bagi pengendara motor), sampah di lingkungan sekitar, 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. selesai lebih cepat satu tahun dari renca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87480" y="457200"/>
            <a:ext cx="699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ttp://en.wikipedia.org/wiki/Mossad#Successful_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457200"/>
            <a:ext cx="699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ttp://en.wikipedia.org/wiki/Mossad#Successful_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-4938840" y="-3348000"/>
            <a:ext cx="11796840" cy="12492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457200"/>
            <a:ext cx="699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ttp://en.wikipedia.org/wiki/Mossad#Successful_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-4938840" y="-3348000"/>
            <a:ext cx="11796840" cy="12492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040"/>
            <a:ext cx="54864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-1440" y="457200"/>
            <a:ext cx="699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ttp://en.wikipedia.org/wiki/Mossad#Successful_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-4938840" y="-3348000"/>
            <a:ext cx="11796840" cy="12492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64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-1440" y="457200"/>
            <a:ext cx="699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ttp://en.wikipedia.org/wiki/Mossad#Successful_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-4938840" y="-3348000"/>
            <a:ext cx="11796840" cy="12492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64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-1440" y="457200"/>
            <a:ext cx="699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ttp://en.wikipedia.org/wiki/Mossad#Successful_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-4938840" y="-3348000"/>
            <a:ext cx="11796840" cy="12492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64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-1440" y="457200"/>
            <a:ext cx="699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ttp://en.wikipedia.org/wiki/Mossad#Successful_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-4938840" y="-3348000"/>
            <a:ext cx="11796840" cy="12492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64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1440" y="457200"/>
            <a:ext cx="6999120" cy="27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</a:rPr>
              <a:t>http://en.wikipedia.org/wiki/Mossad#Successful_oper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-4938840" y="-3348000"/>
            <a:ext cx="11796840" cy="12492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1600"/>
            <a:ext cx="5486400" cy="403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0266-43F0-42BC-9986-9FAC20F2D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AA10B-CAF1-4CF5-BA73-058A961E0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8B9F8-BCE5-4BCD-96CB-5AD395581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87692-9753-4752-82C7-CEF2F2A46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14ACA-7DED-4624-8C21-E3EF9C5C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40D67-3E04-4A43-ACB3-3753309DD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ABF94-F005-4A6A-8BD3-1C7834CD0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5B3DC-AF0F-4B3E-B608-1E3AEB985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A1715-BF13-4DEC-BA73-3EDA16026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2079360"/>
            <a:ext cx="7770960" cy="72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4C131-7BD7-4F49-8B0C-336E34B42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587EC-C8A0-4BCC-A737-2E42C13E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D8526-3035-411B-8BA1-6BA09A912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33B2B-40B7-4706-AD44-517F4685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37C5D6-91E9-427F-82C1-45DB7E206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06780B-E97E-423A-A407-01D952AF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75C87-974E-4CE6-A605-7ADDBF980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96828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0584B-7444-42B0-808D-3EBB17FC4A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A88-49A0-4CE4-9180-B25FCC1B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814EC-15A0-41F6-9E2F-4D5CB4BCF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325DB-3848-41A5-A4E3-D1AE46A60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2079360"/>
            <a:ext cx="7770960" cy="72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9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286-FD9F-4CC2-AE67-B6A236E72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E5C1F-BCD4-454E-80CA-9E524F84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82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A38F3-6C08-445F-83EC-5060C0FD6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828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2915E-F08D-4324-A96C-DEC78358A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30040" y="666720"/>
            <a:ext cx="7381800" cy="155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30040" y="2273400"/>
            <a:ext cx="7381800" cy="39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A6652D5-159E-4EDE-992D-426CB23A9E8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079360"/>
            <a:ext cx="7770960" cy="155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685440" y="6248160"/>
            <a:ext cx="190332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3720" y="6248160"/>
            <a:ext cx="289404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160"/>
            <a:ext cx="190368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FAD2C9-0A10-4ABA-AB0E-8B540EB794B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1240" indent="-28404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493560"/>
            <a:ext cx="7772400" cy="194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6600" spc="-1" strike="noStrike">
                <a:solidFill>
                  <a:srgbClr val="000000"/>
                </a:solidFill>
                <a:latin typeface="Arial"/>
              </a:rPr>
              <a:t>Sistim Informasi</a:t>
            </a:r>
            <a:br>
              <a:rPr sz="6600"/>
            </a:br>
            <a:endParaRPr b="1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3142080"/>
            <a:ext cx="8229600" cy="304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Kuliah Informal Teknologi Informasi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Fasilkom UI, 15 April 2006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3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Harry Sufehmi, MSc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Knowledge is Power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erang 6 hari, Israel vs Arab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srael: 115 tewas, Arab: 15.000 tewas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Internet : collective knowledge;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Wikipedia, Google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FedEx menjadi besar karena Sistim Informasinya</a:t>
            </a:r>
            <a:br>
              <a:rPr sz="2600"/>
            </a:b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600" spc="-1" strike="noStrike">
                <a:solidFill>
                  <a:srgbClr val="000000"/>
                </a:solidFill>
                <a:latin typeface="Arial"/>
              </a:rPr>
              <a:t>Perusahaan dengan SI bagus belum tentu sukses, tetapi perusahaan tanpa SI bagus tidak bisa sukses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Information Overload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6840" y="2039760"/>
            <a:ext cx="8458200" cy="410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idak bisa lagi diproses secara manua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omputer mampu memproses data dengan kecepatan tingg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omputer mampu menyimpan data dalam jumlah besa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gat - GIGO = Garbage In, Garbage Ou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ontoh: input harga jual, justru input harga beli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Contoh Guna SI: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Keuangan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udah membuat berbagai jenis lapor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raca bisa dibuat kapan saj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teksi piutang mace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teksi kebocoran dan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ungkinkan transaksi keuangan dalam volume besar. Contoh: billing SM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Contoh Guna SI: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Personalia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6840" y="22860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Paperless records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emungkinkan penanganan ribuan staf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istem gaji/insentif bisa sangat fleksibel</a:t>
            </a:r>
            <a:br>
              <a:rPr sz="3200"/>
            </a:b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kses yang cepat dan mudah ke data karyawa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Sistim Informasi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6840" y="1639440"/>
            <a:ext cx="8458200" cy="490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Brainware, hardware, software, network, dat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nput – Proses &amp; Simpan – Outpu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1. Perencanaan menyeluruh : </a:t>
            </a:r>
            <a:br>
              <a:rPr sz="2800"/>
            </a:b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GB" sz="2800" spc="-1" strike="noStrike">
                <a:solidFill>
                  <a:srgbClr val="000000"/>
                </a:solidFill>
                <a:latin typeface="Arial"/>
              </a:rPr>
              <a:t>failure to plan is planning to fai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2. Eksekusi bertahap: keterbatasan manusia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Urutan kerja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Identifikasi masalah/kebutuh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sain solusi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eploy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Contoh kasus UKM: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minimarket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6840" y="2057400"/>
            <a:ext cx="84582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Masala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membuat PO manual, memakan waktu sekitar 30 menit per PO, tiap hari sekitar 5 PO = 2,5 jam/hari = 50 jam/bulan. Software POS proprieta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ebutuha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Cetak PO otomat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esai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olusi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Ambil informasi dari database, staf memilih supplier, PO tercetak di kasir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Hasil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Penghematan waktu, mudah mengontrol PO (cetak rangkap 2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Pengembanga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: integrat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Contoh kasus Enterprise:</a:t>
            </a:r>
            <a:br>
              <a:rPr sz="4800"/>
            </a:b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Birmingham City Council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228600" y="2332080"/>
            <a:ext cx="8686800" cy="40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Masalah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 Customer service lambat, perlu banyak staf, rentan abuse, kontrol kualitas sulit.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Kebutuha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 sistem customer service terpadu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esain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lusi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 http://www.birmingham.gov.uk</a:t>
            </a:r>
            <a:br>
              <a:rPr sz="3200"/>
            </a:b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Hasil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: Best eGovernment website se Erop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</a:rPr>
              <a:t>Penutup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6840" y="1780200"/>
            <a:ext cx="8458200" cy="4623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rainware adalah faktor utama di suatu Sistim Informasi – bukan kecanggihan hardware, software, network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n dari semua komponen Brainware, Project Manager adalah yang paling critical.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3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an dari semua skill seorang Project Manager, yang terpenting adalah soft skills – kemampuan berinteraksi dengan orang lain.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ukan kemampuan teknisnya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